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C99E-5216-429C-9419-977628979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A36A-F98B-41CA-BAD9-FB5ABE9E0C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 analysis of Auschwitz front gates – what is this?  Why trains?  What does this suggest (industrial, systematic, open mouth, etc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5E07-EDB7-448A-8694-79CF4557C5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nied entrance to Vienna School of Art before WW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elieved Treaty of Versailles would lead to demise of Germany; wanted to bring Germany back to its rightful place on world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ated to Nazi policies, thought this was how Germany could restor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 orator – critical discussion; how does his body language/tone of voice motivate people?  How do people respond?  What do you think he’s saying?  Why the military unifor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laborate on “Mein Kamph” – translation, belief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7CB8-A2DE-4DF0-A377-8D6337D7D4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olden Years = 1920s, Hitler as political outsider because of failed coup d’e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tical deadlock after resignation of government; unpack this term, also Nazis and Communists win most of the seats in 1932 election (coali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tler creates Nazi Dictator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rn down Reichstag (house of government) and blames Commun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sses law to remove personal freedoms of citizens and structure of gover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ffice of President and Chancellor merged – declares self “Fuehrer”, or “Lead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tical opponents put in concentration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ews, Socialists, Communists removed from civil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eates state-sponsored propaganda to encourage this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80FD-13D6-41AD-94DB-0765D4D357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ew defined as having one Jewish grand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adual support by Germans for Hitler’s practices throughout this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ctures – Nuremberg Laws outlined along genealogy; star also spelled “Jud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32EB-1B05-4674-B408-0CABB7DC3A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ril 1938 – Nazis decare Jews must register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 November – state-sponsored; nobody to help J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fter – Jews could only support Jewish businesses, Germans stigmatized for supporting Jews and worried about who next victi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939 – Holocaust expanded along with advances in the War; this was one way that the Nazis could keep things so secret from the rest of the world (they were distracted by w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5D7E-8494-4D61-A287-06C2C64038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940-42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uilt along railroads; dehumanizing institutionally, socially, economicall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y is it important to dehumanize the victims?  What does this accomp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mptied in 1942 to concentration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al Solution – detailed at Wannsee Conference; unprecedented in scope of operation, not in obj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centration cam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ed for labour, humiliation; death cam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ed for systematic killing (only built after Wannse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scribe other victims in camp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litical opponents, POWs, homosexuals, other religious minoriti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npack visual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ammed quarters in Auschwitz; map of death and concentration camps (location in interior, concentrated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02F6-3EAC-48EE-A316-3F84EC3729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UK not under Nazi control, therefore could help Jews from interior of Europe; brought 9-10,000 children from Nazi-Occupied Europe, 7500 of them Jew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Warsaw Ghetto Uprising – Inmates attacked Nazis when they came to liquidate Warsaw Ghetto; resistors drove Nazis out but they rearmed, reappared, destroy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Unpack photos – liquidation; torching by Germ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ll resistance done at risk of life to individual and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ll resistance done at risk of life to individual and their famil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ll resistance done at risk to individual and their famil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German Jews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red felt underneath yellow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Jewish Councils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stablished by Nazis to police ghettos and provide information on the commu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Some believed that by being on Council and serving Nazis they’d be saved (ended up dying with the rest), others provided false information to Nazis to save ma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8097-C77E-4293-A248-3BB119033F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ti-Semitism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ing Diary entries describing Hitler, Blair “none is too many” as description of how many Jews to allow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fficial respons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ada preoccupied with Depression reco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vian Conferenc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sevelt lead to satisfy Jewish lobbyists; no Allies in attendance pledged to help European J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. Loui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t for Havana, refused there and at Miami and Halifax; went back to Europe where most died in Holoca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bby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adian Jewish Congress provided accurate reports of Nazi death camps and vendetta against Jews to Parliament; Parliament kept qu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,000 Jews enter as tailors and furriers to alleviate shortage in labour; 1948 begin accepting DPs; 1995 Chretien states Canada could have saved more lives in the Holoca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ctur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S St. Louis in 1939; “The Wheel of Conscious” which sits in Halifax as of Jan. 2011 to remind Canadians about our refusal of entry to refugees aboard St. Lou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5967-4232-4B67-86BE-A72DBBA848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bera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llied forces gradually took back Europe, they found Concentration and Death Camps and liberated them; War Museum quote “Why we fought WWII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uremberg Trials – 22 war criminals tried, 12 sentenced to death, 11 executed October 1946 (one hung self the day before scheduled execu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y would they do this?), 3 acquitted, 3 given life in prison, 4 given 10-15 year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itler and closest aides killed selves before end of war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order to avoid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troduced categories of crimes, including crimes against humanity, war crimes; displayed need for definition of genocide (happened in 1948 UN Convention on Genoc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rvivor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pack Europe, Judaism, willingness to 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951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est Germany establishes diplomatic ties with Israel and begins making reparations to the Jewish people through this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npack imag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fendants at Nuremberg, Elie Wiesel as prominent surviv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E5DD-39B7-46FF-A64E-2124E530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F13D6-9502-47E5-B2EA-DE8AB8AA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9A7FE-7038-4003-ADBD-6050545F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10463-2898-4307-A339-62660531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23DF-9C63-433A-9E22-DDB082D6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031B-788B-4C4E-B7EE-AB61587E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2206-C45E-4B0D-8864-E441C20A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3376-DBF6-49CC-B63A-BB6E9B6D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E707-050B-43D1-9FDF-AB6695BB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4EC0-320A-4D45-9049-4A48EECB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1A66-39AF-41C9-894C-07219D6F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9216B-1FD4-40F8-8558-2169C813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0C64-E357-4582-9604-E514E026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3C70-B407-40D3-8C62-F038B80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D1EA-BD0D-4A9B-9A38-E3243C8F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1FD7-39E1-40C8-AF0A-619DDB55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CD01-C749-47D5-AA5F-BC0EFB2F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3075-E372-4E4A-9644-D02A4558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FC327-1AA0-468F-922C-31D57871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43F35-B408-4271-BD00-7BE84EB6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0147-7D54-4AF0-B454-10ABC356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B783-3013-43E0-B27A-2B9AA157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103E-9946-4ACA-956F-78C0F494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F80F-C4EC-404F-856C-A0EB347A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9D00-B225-4038-9D1F-4BBD114FB0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3E65-69F2-425C-92CB-79F127AA32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acafe.com/watch/4174444/adolf_hitler_speech_1932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HOLOCUAS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s. Mau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stern Technical-Commercial Scho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G 3C-0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ril 201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8" descr="auschwitz-birkenau-main_tra"/>
          <p:cNvPicPr/>
          <p:nvPr/>
        </p:nvPicPr>
        <p:blipFill>
          <a:blip r:embed="rId1"/>
          <a:stretch/>
        </p:blipFill>
        <p:spPr>
          <a:xfrm>
            <a:off x="2987640" y="1989000"/>
            <a:ext cx="33894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OLF HITL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WI – German sold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t-WWI – German spy at National Socialist gather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shes “Party Program” – socialist, anti-Semitic and nationali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pularity – rises with speeches to Nazi par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metacafe.com/watch/4174444/adolf_hitler_speech_1932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rest – 1923 for failed coup d'état in Bava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es “Mein Kamph” in ja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4" descr="Adolf Hitler"/>
          <p:cNvPicPr/>
          <p:nvPr/>
        </p:nvPicPr>
        <p:blipFill>
          <a:blip r:embed="rId2"/>
          <a:stretch/>
        </p:blipFill>
        <p:spPr>
          <a:xfrm>
            <a:off x="7308720" y="4508640"/>
            <a:ext cx="1624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TLER’S RISE TO POW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24-1929 – Germany’s Golden Yea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0 – German government resig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2 – Hitler runs for President; looses elec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n. 1933 – Hitler appointed Chancellor of Germa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y June, 1933 – Hitler creates Nazi dictatorshi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adolf_hitler_04"/>
          <p:cNvPicPr/>
          <p:nvPr/>
        </p:nvPicPr>
        <p:blipFill>
          <a:blip r:embed="rId1"/>
          <a:stretch/>
        </p:blipFill>
        <p:spPr>
          <a:xfrm>
            <a:off x="2484360" y="4172040"/>
            <a:ext cx="37432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D-1930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064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al - enforced emigration of all German Je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3 – Jews banned from schools, univers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5 – Nuremberg Laws remove citizenship rights of German Jew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6 – Jewish businesses taken over by Naz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DHM_90-6011"/>
          <p:cNvPicPr/>
          <p:nvPr/>
        </p:nvPicPr>
        <p:blipFill>
          <a:blip r:embed="rId1"/>
          <a:stretch/>
        </p:blipFill>
        <p:spPr>
          <a:xfrm>
            <a:off x="611280" y="3867120"/>
            <a:ext cx="4321080" cy="275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jew"/>
          <p:cNvPicPr/>
          <p:nvPr/>
        </p:nvPicPr>
        <p:blipFill>
          <a:blip r:embed="rId2"/>
          <a:stretch/>
        </p:blipFill>
        <p:spPr>
          <a:xfrm>
            <a:off x="5651640" y="3789360"/>
            <a:ext cx="29527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TE-1930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561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8 – Kristallnacht “Night of Broken Glas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1 November – Nazi storm troopers attack Jewish homes and businesses, killing people and destroying synagogues to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9 – Nazis invade Poland; start of WWI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zi policies now extend over Pola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al – force as many Jews as possible into exile in Polish concentration camps and ghet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4" descr="kristl1"/>
          <p:cNvPicPr/>
          <p:nvPr/>
        </p:nvPicPr>
        <p:blipFill>
          <a:blip r:embed="rId1"/>
          <a:stretch/>
        </p:blipFill>
        <p:spPr>
          <a:xfrm>
            <a:off x="5651640" y="4508640"/>
            <a:ext cx="3348000" cy="208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rokewin"/>
          <p:cNvPicPr/>
          <p:nvPr/>
        </p:nvPicPr>
        <p:blipFill>
          <a:blip r:embed="rId2"/>
          <a:stretch/>
        </p:blipFill>
        <p:spPr>
          <a:xfrm>
            <a:off x="5580000" y="1413000"/>
            <a:ext cx="324000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1940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788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940-1942 – Jews relocated to Ghett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41 – The Final 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al – extermination, not evac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centration and Death Camps saw 18 million peo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 least 5 million died in camps; 11 million total overall, 6 million of whom were Jewis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5" descr="campsmap"/>
          <p:cNvPicPr/>
          <p:nvPr/>
        </p:nvPicPr>
        <p:blipFill>
          <a:blip r:embed="rId1"/>
          <a:stretch/>
        </p:blipFill>
        <p:spPr>
          <a:xfrm>
            <a:off x="4427640" y="3889440"/>
            <a:ext cx="4465440" cy="280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auschwitz"/>
          <p:cNvPicPr/>
          <p:nvPr/>
        </p:nvPicPr>
        <p:blipFill>
          <a:blip r:embed="rId2"/>
          <a:stretch/>
        </p:blipFill>
        <p:spPr>
          <a:xfrm>
            <a:off x="395280" y="393372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EWISH RESIS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197000"/>
            <a:ext cx="5111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istance = the act of opposing something you disagree 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rman Jews – small acts of resistan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wish Councils – some leaders provided false information to Naz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ws in Britain – Kindertrans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rsaw Ghetto Uprising – April to May 194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ghteous Gentiles – non-Jews who hid Jews from the Naz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5" descr="warsaw-ghetto-uprising"/>
          <p:cNvPicPr/>
          <p:nvPr/>
        </p:nvPicPr>
        <p:blipFill>
          <a:blip r:embed="rId1"/>
          <a:stretch/>
        </p:blipFill>
        <p:spPr>
          <a:xfrm>
            <a:off x="5508720" y="1484280"/>
            <a:ext cx="3456000" cy="2441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user998_1169280961"/>
          <p:cNvPicPr/>
          <p:nvPr/>
        </p:nvPicPr>
        <p:blipFill>
          <a:blip r:embed="rId2"/>
          <a:stretch/>
        </p:blipFill>
        <p:spPr>
          <a:xfrm>
            <a:off x="5580000" y="4149720"/>
            <a:ext cx="338472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NADA’S INVOLV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6336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-Semitism in Canadian government and soci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M King – Hitler as “A real companion and friend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.C. Blair – “None is too many”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8 – Canada attends Evian Confe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39 – SS St. Lou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940s – failure to listen to Jewish lobby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t-WWII – Canada allows for 11,000 Jews to enter due to shortage in labo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48 – begin accepting displaced pers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4" descr="stlouis"/>
          <p:cNvPicPr/>
          <p:nvPr/>
        </p:nvPicPr>
        <p:blipFill>
          <a:blip r:embed="rId1"/>
          <a:stretch/>
        </p:blipFill>
        <p:spPr>
          <a:xfrm>
            <a:off x="6443640" y="1268280"/>
            <a:ext cx="2556000" cy="1857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genocide"/>
          <p:cNvPicPr/>
          <p:nvPr/>
        </p:nvPicPr>
        <p:blipFill>
          <a:blip r:embed="rId2"/>
          <a:stretch/>
        </p:blipFill>
        <p:spPr>
          <a:xfrm>
            <a:off x="6227640" y="3716280"/>
            <a:ext cx="273708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FTERMA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beration – 194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remberg Trials – began in 194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rst time human rights addressed on an international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rvivors – lead varying, difficult l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ffer regarding relationship with Europe, Judaism, willingness to tal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4" descr="Defendants_in_the_dock_at_nuremberg_trials"/>
          <p:cNvPicPr/>
          <p:nvPr/>
        </p:nvPicPr>
        <p:blipFill>
          <a:blip r:embed="rId1"/>
          <a:stretch/>
        </p:blipFill>
        <p:spPr>
          <a:xfrm>
            <a:off x="900000" y="3701880"/>
            <a:ext cx="3743280" cy="2946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ba_wiesel_accosted"/>
          <p:cNvPicPr/>
          <p:nvPr/>
        </p:nvPicPr>
        <p:blipFill>
          <a:blip r:embed="rId2"/>
          <a:stretch/>
        </p:blipFill>
        <p:spPr>
          <a:xfrm>
            <a:off x="6156360" y="3357720"/>
            <a:ext cx="20462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14:48:00Z</dcterms:created>
  <dc:creator>Leah Mauer</dc:creator>
  <dc:description/>
  <dc:language>en-US</dc:language>
  <cp:lastModifiedBy>Leah</cp:lastModifiedBy>
  <dcterms:modified xsi:type="dcterms:W3CDTF">2012-04-05T02:03:37Z</dcterms:modified>
  <cp:revision>22</cp:revision>
  <dc:subject/>
  <dc:title>THE HOLOCUAST</dc:title>
</cp:coreProperties>
</file>